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30F-5C82-418D-B526-14622529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B45-B3E0-4785-84AF-1C93E9DC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6B10-51EF-40DE-B38D-27E39BB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BFB5A-C618-488E-BAE0-048A6B0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41BD2-BAEA-4951-BB0B-0C10205A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98B26-5716-4E6B-AAE5-037EBA3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A5C75-FCE5-4B9E-BB9D-C13D03F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EC72-7BEA-486B-BD8E-0D98443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5B95-6556-4BD6-95FC-C37C8B1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989A8-6287-49C5-BF50-CF4AB790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6D18-7A6F-452B-9E77-06BAD8C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2D169-769C-4296-879E-04CC7CCB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B50-2A08-4F03-9453-A52FA01F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C952-503B-412A-9B92-EB5A599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FD1E2-8538-49E1-B855-1F21635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AC68-9F44-408E-A9AA-F299F3E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BC400-0655-421C-937D-41DF172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791E0-C195-469B-884C-357BAEC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3549B-D41B-44AE-AD5E-A2D4BF2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FA902-EDAC-4866-8798-45160F8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D482-66C3-417C-9DAD-93945E0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319A-228E-49F9-B5C8-7074C6F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34CB8-DB66-430B-ACB2-36ED3EFE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20E-8B73-4A0E-8D58-8AC4CC6B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CF09E-32FC-43CF-B798-77C63A57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C02F-8409-4F00-BB98-B028C8C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E44D-5EDF-45F9-9DEF-B3A4F92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6FDFC-9A18-4ADD-BC72-F12FA687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D8A2-25CC-4F10-91EF-721A70A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04EC-F336-445B-8072-17A996A7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D6D1C-E866-4CE0-B1BB-9894A70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ED30-6C00-465E-8D41-57B7522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A162-E544-4263-A3CE-A989F4C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C4FAA-24B2-4956-B811-7718755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19A-B9AF-4568-94D4-6904BAA4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8778-5023-4F24-9761-FDD0629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CE7C-A7D6-40EC-BF7A-2D172328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98AA6-16F4-4DC4-82EE-A80AAD8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95FA0-949A-4091-B57B-E0CC0360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E4B56-EC5B-4A53-8051-4ECF9BC8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B432F-D84E-43AA-9916-41B16B4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434F-1443-459A-BF07-EBEA6DF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19BD-2D00-486A-A413-0618E45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D6C09-105E-44A3-8881-D3362ED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16B99-220A-4994-A429-7CCBAB4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12D-3456-47D9-9D95-A643C789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91384-D41F-4DFA-85D5-ECF3516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C1AC-70D1-4B41-A883-D8F5119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85AEE-192F-44A2-B03B-778EB7C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8F27F-EF71-433E-93DE-F6E006F9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258A-7F48-46AB-AC7C-C631176F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8A3F-6D97-45B7-95DB-A00FED92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9B8C-0F33-405A-A86F-63CB8440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0A7A-258D-4307-98FE-C64FD814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1B81-4A19-4A67-A9E6-19596B3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1D05-FE85-4033-98FB-2B3C7F6E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9C7-63F8-4752-BC6E-9FBFA74D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B20-26BB-451B-8F9E-F0581DD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9C3-9C69-4664-B25B-3551816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384-FEEB-4811-A280-F5427B3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4A9A-BEF8-438E-B7CE-AB56FAB4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0C9C-D642-42BC-B69E-914E3103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EF88-EDCA-4192-883A-DF8BEF82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28C2-A7F3-4D47-901A-9E8D647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109F-A4C0-4E61-9E8E-FE06E2F2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15450-0A96-46BC-8F86-955F9DF4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7BBA-C961-45C5-BBF4-16FD93C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296-70D9-45BE-ABF4-32A0AA37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1FC2-BA44-4863-ACCE-96382319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8515-9B72-44D6-AE86-C3AC39A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A918-B47B-44D5-93BD-7DAD3C5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CCA9-3852-46D5-91DF-84CDB90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7E1C-9EB9-4758-A17D-45DA92D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5262-AB6B-4E8F-A3F1-A9EF6043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8431-EBA1-43C0-9A6B-A3EAB5C3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42C8-06D4-4E86-AA5A-CD15F2A4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A16B-4A4D-4FAE-94BC-5D2CB92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3188-0D5A-4200-909B-6E2ABBEE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91D-95BE-41B3-8329-5919876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5C69-4C38-4C0A-BE53-45A7CB6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ACB1-6A0B-4D10-B1F5-7A01D69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A3CA-BAAE-4A2D-B693-19C331F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2283-6F00-4166-89C4-DAD1B35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A258-AFA7-4FB5-87A2-67FAF17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DF94-63F1-4519-B8E1-5DF6600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78C6-5308-425F-9628-17CFB5F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FDA0-48EF-4CA8-AE9A-B43778F0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52FC-3DAF-40D3-A7D5-23E1A915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BADD-82C7-4087-B298-5CD4F224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5A6-3F4A-4641-ABD4-551B53E3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A15B-9708-4A7F-B85F-A2A9410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F7B8-5F13-4DCE-88E5-CF71248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4544-EF65-4882-B2C1-A10CC547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B3EA-7800-44BA-A5FB-C8CF8F1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5166-E65A-415D-9230-7E3F094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34CD-F701-4F27-816D-3BA0E3B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FFEA-6566-4AC8-A555-7B122A0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8E95-1828-4BC2-AF55-5B2CA38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8ABB-2156-4241-8409-837D9CC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0117-F636-41BB-B272-D2BBCA35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EAD-F1CB-419F-994E-BC205BE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450D-F88F-430A-8C6C-D46E0E66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05B1-50FE-4267-BD6D-B3595C3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98D4F-167A-4E1E-AC6C-22F344A0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51FF5-1717-4D98-AF27-27204D26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1EE2-A85C-4C93-A803-49DCDC4E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610C-9CD1-49FC-8413-B0D522C5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24E6-4445-420B-BF72-43992059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AA15-39EE-43D4-B02B-EB0DD4C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A885-722E-4390-B5F2-205B50D0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F6814-7702-45F9-8316-394ECFE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9BB-3D01-4660-AF2F-E94ADB9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90EC-328A-440A-874D-59A11794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1C61-DE62-485B-8974-E445B276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D99A-6F4C-4EA3-AE5C-1350AB1C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7666-78D3-4E9D-8BE4-BA8309EC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312A4-B53F-42BD-B148-41789D6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384C-6DB7-4771-90D9-A354AB9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802E-A1EE-4AF0-AABD-0F20E64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A171-F4BF-428A-87C7-9B2DE3C9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D07FF-0CD6-41F0-8510-3C37C86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2DE5-0874-4433-9ED6-E1FDD59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092-974C-42F3-B8AC-46B8990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A68F-A244-4E3E-ACED-BD2AF88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EF5DC-A808-4DFC-8064-E888675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B55E-0D72-43A5-AD14-F1C9360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8949-661E-4A38-97EC-D9FA46AE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E7E6-3D52-4071-B1F2-38CEA84B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6841-B3FF-4B47-BEDD-582E070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FE21-8892-415D-854B-518A121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72B1-6897-4C01-8B0B-3D9E6176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DBFF-A97C-4226-8AF3-4E4F209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94710-9DF1-4EED-B851-E3BD75E0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771-2D85-4A8F-8618-0BE6EF4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6A5E-4A62-450E-869B-782E5884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92F9-D34E-40ED-9C1D-B053E11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F28A-E4C1-4758-A7BB-7EBE1918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1E4D8-9C52-4F53-8D48-281BA5C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1F9D-259D-4BF1-A9F7-298D8ED9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8D98-0F4B-4ECB-BC73-111F7CFA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7734A-61B1-490B-A24E-2B5580C0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C35FE-7A0C-459D-BBD6-38B39AB2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3B27D-EED1-4614-B3A1-746CB56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55ED7-DEAE-4633-9C52-2486B605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7791-AE95-4BE9-9A90-5A20AE0ECA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352-ADFE-4BF8-B4D7-47190A536A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C98-AAFD-464B-B809-5C8D30B54F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F92-3C3D-4F62-96B1-1265E353DC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64B-580E-4FD5-B1B5-324D09D766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D4E-D9C9-48F9-8F4A-8EFB80778D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759-D666-445D-9311-81E48DD4FB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589-8E10-407E-A72A-491A64C1B3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F5D-F8A8-4FF2-B96E-60D291FD05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6EB-E54D-4A92-B177-43145BDA11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975A-A70D-494E-B081-71B003B6BF8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6C7-BA62-4E37-8912-DB653DBDC9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6 Ja chcem ti, Pane, slávu vzd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chcem ti, Pane, slávu vz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chválu v tento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ôkaz, že ma mil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dal si mnoho 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vďaka ti za schop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od teba som v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a nimi vele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Spasiteľ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sluhom tvojím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slúžiť ľuďo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pomôž radosť šíriť vž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bez teba som úbo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č nedokážem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stále verne pri mn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prosbu k tebe m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7:15:34Z</dcterms:modified>
  <cp:revision>51</cp:revision>
  <dc:subject/>
  <dc:title>Je veľký náš Pán, on slávy je Kráľ Nech do všetkých strán  spev vrúcnych znie chvál.</dc:title>
</cp:coreProperties>
</file>